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6.jpeg" ContentType="image/jpeg"/>
  <Override PartName="/ppt/media/image8.png" ContentType="image/png"/>
  <Override PartName="/ppt/media/image30.gif" ContentType="image/gif"/>
  <Override PartName="/ppt/media/image14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0.gif" ContentType="image/gif"/>
  <Override PartName="/ppt/media/image31.png" ContentType="image/png"/>
  <Override PartName="/ppt/media/image13.jpeg" ContentType="image/jpeg"/>
  <Override PartName="/ppt/media/image15.jpeg" ContentType="image/jpeg"/>
  <Override PartName="/ppt/media/image5.png" ContentType="image/png"/>
  <Override PartName="/ppt/media/image3.wmf" ContentType="image/x-wmf"/>
  <Override PartName="/ppt/media/image29.jpeg" ContentType="image/jpeg"/>
  <Override PartName="/ppt/media/image1.jpeg" ContentType="image/jpeg"/>
  <Override PartName="/ppt/media/image9.gif" ContentType="image/gif"/>
  <Override PartName="/ppt/media/image16.jpeg" ContentType="image/jpeg"/>
  <Override PartName="/ppt/media/image17.png" ContentType="image/png"/>
  <Override PartName="/ppt/media/image22.gif" ContentType="image/gif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8EAE-81CC-4870-9471-70D249C42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D079-CFA0-4AD7-90EE-E1062675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A533-74AA-4D04-9B9F-72A8ADA9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343D-0408-48DE-B195-4B842EF1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6EB-5A0A-40F3-AEA9-108A7699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09DD-1A7C-426D-A067-12993FFB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BD13-6568-4152-A87E-1C95E840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308B-0B70-46D9-8303-C7B64537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6F41-A971-4921-A11B-FA68F90F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E494-402C-4113-B196-EE5822F3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7591-D28A-45C1-92FF-E6C767DA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C96D-0197-49E3-9B78-47CB85F8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03E3-87CF-4566-B615-1527FD8B383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7600" y="4806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Boulder"/>
              </a:rPr>
              <a:t>Unión Venezolana Oriental </a:t>
            </a:r>
            <a:br>
              <a:rPr sz="4000"/>
            </a:br>
            <a:r>
              <a:rPr b="0" lang="es-ES_tradnl" sz="4000" spc="-1" strike="noStrike">
                <a:solidFill>
                  <a:srgbClr val="3333cc"/>
                </a:solidFill>
                <a:latin typeface="Boulder"/>
              </a:rPr>
              <a:t>Visión un Mill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7" descr="gP gOLD 22"/>
          <p:cNvPicPr/>
          <p:nvPr/>
        </p:nvPicPr>
        <p:blipFill>
          <a:blip r:embed="rId2"/>
          <a:stretch/>
        </p:blipFill>
        <p:spPr>
          <a:xfrm>
            <a:off x="3635280" y="463680"/>
            <a:ext cx="5327640" cy="3973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00ff00"/>
                </a:solidFill>
                <a:latin typeface="Boulder"/>
              </a:rPr>
              <a:t>¿Qué es un ministeri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560" y="2708280"/>
            <a:ext cx="532764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Bwgrk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ff00"/>
                </a:solidFill>
                <a:latin typeface="Bwgrkl"/>
              </a:rPr>
              <a:t>diakoniw/n </a:t>
            </a:r>
            <a:r>
              <a:rPr b="0" lang="es-VE" sz="3600" spc="-1" strike="noStrike">
                <a:solidFill>
                  <a:srgbClr val="ffff00"/>
                </a:solidFill>
                <a:latin typeface="Bangle"/>
              </a:rPr>
              <a:t>(Servicio, ayuda)</a:t>
            </a:r>
            <a:r>
              <a:rPr b="0" lang="es-VE" sz="2800" spc="-1" strike="noStrike">
                <a:solidFill>
                  <a:srgbClr val="000000"/>
                </a:solidFill>
                <a:latin typeface="Bang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000" spc="-1" strike="noStrike">
                <a:solidFill>
                  <a:srgbClr val="ffffff"/>
                </a:solidFill>
                <a:latin typeface="Bangle"/>
              </a:rPr>
              <a:t>Asignación, responsabilidad otorgada por el Espíritu a todos los creyent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36680" y="43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ffffff"/>
                </a:solidFill>
                <a:latin typeface="Boulder"/>
              </a:rPr>
              <a:t>¿Qué es un d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" y="3069720"/>
            <a:ext cx="4822920" cy="3743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Bwgrk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ff00"/>
                </a:solidFill>
                <a:latin typeface="Bwgrkl"/>
              </a:rPr>
              <a:t>carisma,twn </a:t>
            </a:r>
            <a:r>
              <a:rPr b="1" lang="es-VE" sz="3600" spc="-1" strike="noStrike">
                <a:solidFill>
                  <a:srgbClr val="ffff00"/>
                </a:solidFill>
                <a:latin typeface="Bangle"/>
              </a:rPr>
              <a:t>(Regalo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800" spc="-1" strike="noStrike">
                <a:solidFill>
                  <a:srgbClr val="ffff00"/>
                </a:solidFill>
                <a:latin typeface="Bangle"/>
              </a:rPr>
              <a:t>Herramientas para cumplir nuestro minister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5400" spc="-1" strike="noStrike">
                <a:solidFill>
                  <a:srgbClr val="ffff00"/>
                </a:solidFill>
                <a:latin typeface="Boulder"/>
              </a:rPr>
              <a:t>TALENT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8720" y="4501800"/>
            <a:ext cx="7415280" cy="2095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ffffff"/>
                </a:solidFill>
                <a:latin typeface="Bangle"/>
              </a:rPr>
              <a:t>Aptitudes, o habilidades con las cuales Dios nos capacita cuando nacemo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ffffff"/>
                </a:solidFill>
                <a:latin typeface="Boulder"/>
              </a:rPr>
              <a:t>¿Qué es una operació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4138200"/>
            <a:ext cx="8675640" cy="2530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wgrk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Bwgrkl"/>
              </a:rPr>
              <a:t>evnerghma,twn </a:t>
            </a:r>
            <a:r>
              <a:rPr b="1" lang="es-VE" sz="2800" spc="-1" strike="noStrike">
                <a:solidFill>
                  <a:srgbClr val="ffffff"/>
                </a:solidFill>
                <a:latin typeface="Bangle"/>
              </a:rPr>
              <a:t>(Trabajo, actividad)</a:t>
            </a:r>
            <a:r>
              <a:rPr b="1" lang="es-VE" sz="2000" spc="-1" strike="noStrike">
                <a:solidFill>
                  <a:srgbClr val="000000"/>
                </a:solidFill>
                <a:latin typeface="Bang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00"/>
                </a:solidFill>
                <a:latin typeface="Bangle"/>
              </a:rPr>
              <a:t>Formas de Actividades, de trabajos. Identifica las diferentes maneras de desarrollar, aplicar, nuestro ministe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79280" y="907920"/>
            <a:ext cx="8713800" cy="528732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4000" spc="-1" strike="noStrike">
                <a:solidFill>
                  <a:srgbClr val="00ff00"/>
                </a:solidFill>
                <a:latin typeface="Bangle"/>
              </a:rPr>
              <a:t>“</a:t>
            </a:r>
            <a:r>
              <a:rPr b="1" i="1" lang="es-VE" sz="4000" spc="-1" strike="noStrike">
                <a:solidFill>
                  <a:srgbClr val="00ff00"/>
                </a:solidFill>
                <a:latin typeface="Bangle"/>
              </a:rPr>
              <a:t>Porque de la manera que en un cuerpo tenemos muchos miembros, </a:t>
            </a:r>
            <a:r>
              <a:rPr b="1" i="1" lang="es-VE" sz="4000" spc="-1" strike="noStrike">
                <a:solidFill>
                  <a:srgbClr val="ff3300"/>
                </a:solidFill>
                <a:latin typeface="Bangle"/>
              </a:rPr>
              <a:t>pero no todos los miembros tienen la misma función</a:t>
            </a:r>
            <a:r>
              <a:rPr b="1" i="1" lang="es-VE" sz="4000" spc="-1" strike="noStrike">
                <a:solidFill>
                  <a:srgbClr val="00ff00"/>
                </a:solidFill>
                <a:latin typeface="Bangle"/>
              </a:rPr>
              <a:t>, así nosotros, siendo muchos, somos un cuerpo en Cristo, y todos miembros los unos de los otros.”</a:t>
            </a:r>
            <a:r>
              <a:rPr b="1" lang="es-VE" sz="4000" spc="-1" strike="noStrike">
                <a:solidFill>
                  <a:srgbClr val="00ff00"/>
                </a:solidFill>
                <a:latin typeface="Bang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00ff00"/>
                </a:solidFill>
                <a:latin typeface="Bangle"/>
              </a:rPr>
              <a:t>Rom. 12.1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1"/>
          <p:cNvPicPr/>
          <p:nvPr/>
        </p:nvPicPr>
        <p:blipFill>
          <a:blip r:embed="rId2"/>
          <a:stretch/>
        </p:blipFill>
        <p:spPr>
          <a:xfrm>
            <a:off x="8229600" y="228600"/>
            <a:ext cx="600120" cy="447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919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00ff00"/>
                </a:solidFill>
                <a:latin typeface="Boulder"/>
              </a:rPr>
              <a:t>¿Cómo podemos alcanzar esto?</a:t>
            </a:r>
            <a:r>
              <a:rPr b="1" lang="es-VE" sz="4400" spc="-1" strike="noStrike">
                <a:solidFill>
                  <a:srgbClr val="00ff00"/>
                </a:solidFill>
                <a:latin typeface="Boulder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900000" y="3645000"/>
            <a:ext cx="73440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800" spc="-1" strike="noStrike">
                <a:solidFill>
                  <a:srgbClr val="ff0066"/>
                </a:solidFill>
                <a:latin typeface="Bangle"/>
              </a:rPr>
              <a:t>Cuando cada uno cumpla su ministerio dirigido por el Espíritu de D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324000" y="71280"/>
            <a:ext cx="842472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5400" spc="-1" strike="noStrike">
                <a:solidFill>
                  <a:srgbClr val="00ff00"/>
                </a:solidFill>
                <a:latin typeface="Bangle"/>
              </a:rPr>
              <a:t>“</a:t>
            </a:r>
            <a:r>
              <a:rPr b="1" i="1" lang="es-VE" sz="5400" spc="-1" strike="noStrike">
                <a:solidFill>
                  <a:srgbClr val="00ff00"/>
                </a:solidFill>
                <a:latin typeface="Bangle"/>
              </a:rPr>
              <a:t>Y él mismo constituyó a unos, </a:t>
            </a:r>
            <a:r>
              <a:rPr b="1" lang="es-VE" sz="5400" spc="-1" strike="noStrike" u="sng">
                <a:solidFill>
                  <a:srgbClr val="ffffff"/>
                </a:solidFill>
                <a:uFillTx/>
                <a:latin typeface="Bangle"/>
              </a:rPr>
              <a:t>apóstoles</a:t>
            </a:r>
            <a:r>
              <a:rPr b="1" i="1" lang="es-VE" sz="5400" spc="-1" strike="noStrike">
                <a:solidFill>
                  <a:srgbClr val="ffffff"/>
                </a:solidFill>
                <a:latin typeface="Bangle"/>
              </a:rPr>
              <a:t>,</a:t>
            </a:r>
            <a:r>
              <a:rPr b="1" i="1" lang="es-VE" sz="5400" spc="-1" strike="noStrike">
                <a:solidFill>
                  <a:srgbClr val="00ff00"/>
                </a:solidFill>
                <a:latin typeface="Bangle"/>
              </a:rPr>
              <a:t> a otros, </a:t>
            </a:r>
            <a:r>
              <a:rPr b="1" lang="es-VE" sz="5400" spc="-1" strike="noStrike" u="sng">
                <a:solidFill>
                  <a:srgbClr val="ffffff"/>
                </a:solidFill>
                <a:uFillTx/>
                <a:latin typeface="Bangle"/>
              </a:rPr>
              <a:t>profetas</a:t>
            </a:r>
            <a:r>
              <a:rPr b="1" i="1" lang="es-VE" sz="5400" spc="-1" strike="noStrike">
                <a:solidFill>
                  <a:srgbClr val="ffffff"/>
                </a:solidFill>
                <a:latin typeface="Bangle"/>
              </a:rPr>
              <a:t>;</a:t>
            </a:r>
            <a:r>
              <a:rPr b="1" i="1" lang="es-VE" sz="5400" spc="-1" strike="noStrike">
                <a:solidFill>
                  <a:srgbClr val="00ff00"/>
                </a:solidFill>
                <a:latin typeface="Bangle"/>
              </a:rPr>
              <a:t> a otros, </a:t>
            </a:r>
            <a:r>
              <a:rPr b="1" lang="es-VE" sz="5400" spc="-1" strike="noStrike" u="sng">
                <a:solidFill>
                  <a:srgbClr val="ffffff"/>
                </a:solidFill>
                <a:uFillTx/>
                <a:latin typeface="Bangle"/>
              </a:rPr>
              <a:t>evangelistas</a:t>
            </a:r>
            <a:r>
              <a:rPr b="0" i="1" lang="es-VE" sz="5400" spc="-1" strike="noStrike">
                <a:solidFill>
                  <a:srgbClr val="ffffff"/>
                </a:solidFill>
                <a:latin typeface="Bangle"/>
              </a:rPr>
              <a:t>;</a:t>
            </a:r>
            <a:r>
              <a:rPr b="1" i="1" lang="es-VE" sz="5400" spc="-1" strike="noStrike">
                <a:solidFill>
                  <a:srgbClr val="00ff00"/>
                </a:solidFill>
                <a:latin typeface="Bangle"/>
              </a:rPr>
              <a:t> a otros, </a:t>
            </a:r>
            <a:r>
              <a:rPr b="1" lang="es-VE" sz="5400" spc="-1" strike="noStrike" u="sng">
                <a:solidFill>
                  <a:srgbClr val="ffffff"/>
                </a:solidFill>
                <a:uFillTx/>
                <a:latin typeface="Bangle"/>
              </a:rPr>
              <a:t>pastores-maestros</a:t>
            </a:r>
            <a:r>
              <a:rPr b="1" i="1" lang="es-VE" sz="5400" spc="-1" strike="noStrike">
                <a:solidFill>
                  <a:srgbClr val="ffffff"/>
                </a:solidFill>
                <a:latin typeface="Bangle"/>
              </a:rPr>
              <a:t>,</a:t>
            </a:r>
            <a:r>
              <a:rPr b="1" i="1" lang="es-VE" sz="5400" spc="-1" strike="noStrike">
                <a:solidFill>
                  <a:srgbClr val="00ff00"/>
                </a:solidFill>
                <a:latin typeface="Bangle"/>
              </a:rPr>
              <a:t> a fin de perfeccionar a los santos para la obra del ministerio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24000" y="577800"/>
            <a:ext cx="842472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4800" spc="-1" strike="noStrike">
                <a:solidFill>
                  <a:srgbClr val="ff3300"/>
                </a:solidFill>
                <a:latin typeface="Bangle"/>
              </a:rPr>
              <a:t>“</a:t>
            </a:r>
            <a:r>
              <a:rPr b="1" i="1" lang="es-VE" sz="4800" spc="-1" strike="noStrike">
                <a:solidFill>
                  <a:srgbClr val="ff3300"/>
                </a:solidFill>
                <a:latin typeface="Bangle"/>
              </a:rPr>
              <a:t>para la edificación del cuepo de Cristo, hasta que todos lleguemos a la unidad de la fe y del conocimiento del Hijo de Dios, a un varón perfecto, a la medida de la estatura de la plenitud de Cristo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395280" y="44280"/>
            <a:ext cx="7993080" cy="61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3600" spc="-1" strike="noStrike">
                <a:solidFill>
                  <a:srgbClr val="ffffff"/>
                </a:solidFill>
                <a:latin typeface="Bangle"/>
              </a:rPr>
              <a:t>Para que no seamos niños fluctuantes,… sino que siguiendo la verdad en amor, </a:t>
            </a:r>
            <a:r>
              <a:rPr b="1" i="1" lang="es-VE" sz="3600" spc="-1" strike="noStrike">
                <a:solidFill>
                  <a:srgbClr val="00cc00"/>
                </a:solidFill>
                <a:latin typeface="Bangle"/>
              </a:rPr>
              <a:t>crezcamos en todo</a:t>
            </a:r>
            <a:r>
              <a:rPr b="1" i="1" lang="es-VE" sz="3600" spc="-1" strike="noStrike">
                <a:solidFill>
                  <a:srgbClr val="ffffff"/>
                </a:solidFill>
                <a:latin typeface="Bangle"/>
              </a:rPr>
              <a:t> en aquel que es la cabeza, esto es, Cristo, de quien todo el cuerpo, </a:t>
            </a:r>
            <a:r>
              <a:rPr b="1" i="1" lang="es-VE" sz="3600" spc="-1" strike="noStrike">
                <a:solidFill>
                  <a:srgbClr val="00cc00"/>
                </a:solidFill>
                <a:latin typeface="Bangle"/>
              </a:rPr>
              <a:t>bien concertado</a:t>
            </a:r>
            <a:r>
              <a:rPr b="1" i="1" lang="es-VE" sz="3600" spc="-1" strike="noStrike">
                <a:solidFill>
                  <a:srgbClr val="ffffff"/>
                </a:solidFill>
                <a:latin typeface="Bangle"/>
              </a:rPr>
              <a:t> y </a:t>
            </a:r>
            <a:r>
              <a:rPr b="1" i="1" lang="es-VE" sz="3600" spc="-1" strike="noStrike">
                <a:solidFill>
                  <a:srgbClr val="00cc00"/>
                </a:solidFill>
                <a:latin typeface="Bangle"/>
              </a:rPr>
              <a:t>unido </a:t>
            </a:r>
            <a:r>
              <a:rPr b="1" i="1" lang="es-VE" sz="3600" spc="-1" strike="noStrike">
                <a:solidFill>
                  <a:srgbClr val="ffffff"/>
                </a:solidFill>
                <a:latin typeface="Bangle"/>
              </a:rPr>
              <a:t>entre sí por todas las coyunturas que se </a:t>
            </a:r>
            <a:r>
              <a:rPr b="1" i="1" lang="es-VE" sz="3600" spc="-1" strike="noStrike">
                <a:solidFill>
                  <a:srgbClr val="00cc00"/>
                </a:solidFill>
                <a:latin typeface="Bangle"/>
              </a:rPr>
              <a:t>ayudan mutuamente</a:t>
            </a:r>
            <a:r>
              <a:rPr b="1" i="1" lang="es-VE" sz="3600" spc="-1" strike="noStrike">
                <a:solidFill>
                  <a:srgbClr val="ffffff"/>
                </a:solidFill>
                <a:latin typeface="Bangle"/>
              </a:rPr>
              <a:t>, según la actividad propia de cada miembro, </a:t>
            </a:r>
            <a:r>
              <a:rPr b="1" i="1" lang="es-VE" sz="3600" spc="-1" strike="noStrike">
                <a:solidFill>
                  <a:srgbClr val="00cc00"/>
                </a:solidFill>
                <a:latin typeface="Bangle"/>
              </a:rPr>
              <a:t>recibe su crecimiento</a:t>
            </a:r>
            <a:r>
              <a:rPr b="1" i="1" lang="es-VE" sz="3600" spc="-1" strike="noStrike">
                <a:solidFill>
                  <a:srgbClr val="ffffff"/>
                </a:solidFill>
                <a:latin typeface="Bangle"/>
              </a:rPr>
              <a:t> para ir edificándose en amor.” Efs. </a:t>
            </a:r>
            <a:r>
              <a:rPr b="1" i="1" lang="es-VE" sz="3200" spc="-1" strike="noStrike">
                <a:solidFill>
                  <a:srgbClr val="ffffff"/>
                </a:solidFill>
                <a:latin typeface="Bangle"/>
              </a:rPr>
              <a:t>4.11-1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mr_invisible_surprised_lg_clr"/>
          <p:cNvPicPr/>
          <p:nvPr/>
        </p:nvPicPr>
        <p:blipFill>
          <a:blip r:embed="rId2"/>
          <a:stretch/>
        </p:blipFill>
        <p:spPr>
          <a:xfrm>
            <a:off x="7905600" y="5305320"/>
            <a:ext cx="1238400" cy="1552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2"/>
          <p:cNvGrpSpPr/>
          <p:nvPr/>
        </p:nvGrpSpPr>
        <p:grpSpPr>
          <a:xfrm>
            <a:off x="826920" y="765000"/>
            <a:ext cx="7417080" cy="4824720"/>
            <a:chOff x="826920" y="765000"/>
            <a:chExt cx="7417080" cy="4824720"/>
          </a:xfrm>
        </p:grpSpPr>
        <p:sp>
          <p:nvSpPr>
            <p:cNvPr id="82" name="Rectangle 4"/>
            <p:cNvSpPr/>
            <p:nvPr/>
          </p:nvSpPr>
          <p:spPr>
            <a:xfrm>
              <a:off x="826920" y="765000"/>
              <a:ext cx="7417080" cy="4824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"/>
            <p:cNvSpPr/>
            <p:nvPr/>
          </p:nvSpPr>
          <p:spPr>
            <a:xfrm>
              <a:off x="3780000" y="2060640"/>
              <a:ext cx="1439640" cy="1728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5"/>
            <p:cNvSpPr/>
            <p:nvPr/>
          </p:nvSpPr>
          <p:spPr>
            <a:xfrm>
              <a:off x="4500720" y="765000"/>
              <a:ext cx="0" cy="482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>
              <a:off x="826920" y="2133720"/>
              <a:ext cx="792360" cy="1800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7"/>
            <p:cNvSpPr/>
            <p:nvPr/>
          </p:nvSpPr>
          <p:spPr>
            <a:xfrm>
              <a:off x="7451640" y="2133720"/>
              <a:ext cx="792360" cy="1800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5796000" y="2276640"/>
              <a:ext cx="23050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Instructo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Bíblic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492360" y="2492280"/>
              <a:ext cx="20876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Instruct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La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1"/>
            <p:cNvSpPr/>
            <p:nvPr/>
          </p:nvSpPr>
          <p:spPr>
            <a:xfrm>
              <a:off x="4284720" y="2205000"/>
              <a:ext cx="358560" cy="3603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2"/>
            <p:cNvSpPr/>
            <p:nvPr/>
          </p:nvSpPr>
          <p:spPr>
            <a:xfrm>
              <a:off x="6732720" y="2708280"/>
              <a:ext cx="358560" cy="3603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4"/>
            <p:cNvSpPr/>
            <p:nvPr/>
          </p:nvSpPr>
          <p:spPr>
            <a:xfrm>
              <a:off x="2484360" y="2637000"/>
              <a:ext cx="358920" cy="360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3"/>
            <p:cNvSpPr/>
            <p:nvPr/>
          </p:nvSpPr>
          <p:spPr>
            <a:xfrm>
              <a:off x="1763640" y="2279520"/>
              <a:ext cx="18003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Herman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May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5"/>
            <p:cNvSpPr/>
            <p:nvPr/>
          </p:nvSpPr>
          <p:spPr>
            <a:xfrm>
              <a:off x="2484360" y="1341360"/>
              <a:ext cx="358920" cy="360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6"/>
            <p:cNvSpPr/>
            <p:nvPr/>
          </p:nvSpPr>
          <p:spPr>
            <a:xfrm>
              <a:off x="2411280" y="3789360"/>
              <a:ext cx="358920" cy="360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7"/>
            <p:cNvSpPr/>
            <p:nvPr/>
          </p:nvSpPr>
          <p:spPr>
            <a:xfrm>
              <a:off x="4356000" y="3573360"/>
              <a:ext cx="358920" cy="3603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8"/>
            <p:cNvSpPr/>
            <p:nvPr/>
          </p:nvSpPr>
          <p:spPr>
            <a:xfrm>
              <a:off x="1116000" y="2852640"/>
              <a:ext cx="358920" cy="360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7440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189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ffff"/>
                </a:solidFill>
                <a:latin typeface="Boulder"/>
              </a:rPr>
              <a:t>MINISTERIOS, DONES, OPERACIONES EN LOS GRUPOS PEQUEÑ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3" descr="BD06517_"/>
          <p:cNvPicPr/>
          <p:nvPr/>
        </p:nvPicPr>
        <p:blipFill>
          <a:blip r:embed="rId1"/>
          <a:stretch/>
        </p:blipFill>
        <p:spPr>
          <a:xfrm>
            <a:off x="2603520" y="2833560"/>
            <a:ext cx="3568680" cy="2352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132160"/>
            <a:ext cx="6400800" cy="888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Bangle"/>
              </a:rPr>
              <a:t>UNA APROXIMAC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00"/>
                </a:solidFill>
                <a:latin typeface="Boulder"/>
              </a:rPr>
              <a:t>ORGANIZACIÓN LA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07960" y="1268280"/>
            <a:ext cx="7772400" cy="2890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Bangle"/>
              </a:rPr>
              <a:t>PREDICADORES LAIC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Bangle"/>
              </a:rPr>
              <a:t>INSTRUCTORES LAIC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Bangle"/>
              </a:rPr>
              <a:t>INSTRUCTORES BÍBLIC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Bangle"/>
              </a:rPr>
              <a:t>HERMANOS MAYOR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ffffff"/>
                </a:solidFill>
                <a:latin typeface="Boulder"/>
              </a:rPr>
              <a:t> </a:t>
            </a:r>
            <a:r>
              <a:rPr b="1" lang="es-VE" sz="4000" spc="-1" strike="noStrike">
                <a:solidFill>
                  <a:srgbClr val="ffffff"/>
                </a:solidFill>
                <a:latin typeface="Boulder"/>
              </a:rPr>
              <a:t>INSTRUCTORES BIBL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67240" y="3573000"/>
            <a:ext cx="5325840" cy="3033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66ff33"/>
                </a:solidFill>
                <a:latin typeface="Bangle"/>
              </a:rPr>
              <a:t>Expertos en trabajar con personas no adventis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66ff33"/>
                </a:solidFill>
                <a:latin typeface="Bangle"/>
              </a:rPr>
              <a:t>Excelentes para comenzar la tarea misionera. Rom. 11.1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6" descr="Julio_Agosto_06 185"/>
          <p:cNvPicPr/>
          <p:nvPr/>
        </p:nvPicPr>
        <p:blipFill>
          <a:blip r:embed="rId1"/>
          <a:stretch/>
        </p:blipFill>
        <p:spPr>
          <a:xfrm>
            <a:off x="0" y="1341360"/>
            <a:ext cx="3121200" cy="2341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250920" y="476280"/>
            <a:ext cx="82818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3600" spc="-1" strike="noStrike">
                <a:solidFill>
                  <a:srgbClr val="ffff00"/>
                </a:solidFill>
                <a:latin typeface="Bangle"/>
              </a:rPr>
              <a:t>“</a:t>
            </a:r>
            <a:r>
              <a:rPr b="1" i="1" lang="es-VE" sz="3600" spc="-1" strike="noStrike">
                <a:solidFill>
                  <a:srgbClr val="ffff00"/>
                </a:solidFill>
                <a:latin typeface="Bangle"/>
              </a:rPr>
              <a:t>Había entonces en la iglesia que estaba en Antioquía, profetas y maestros:… Ministrando éstos al Señor, y ayunando, dijo el Espíritu Santo: Apartadme a Bernabé y a Saulo para la obra a que los he llamado. Entonces, habiendo ayunado y orado, les impusieron las manos y los despidieron.” Hech. 13.1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00ff00"/>
                </a:solidFill>
                <a:latin typeface="Boulder"/>
              </a:rPr>
              <a:t>HERMANOS MAY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9080" y="44280"/>
            <a:ext cx="6118200" cy="245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0066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600" spc="-1" strike="noStrike">
                <a:solidFill>
                  <a:srgbClr val="ff0066"/>
                </a:solidFill>
                <a:latin typeface="Bangle"/>
              </a:rPr>
              <a:t>Consuelan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0066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600" spc="-1" strike="noStrike">
                <a:solidFill>
                  <a:srgbClr val="ff0066"/>
                </a:solidFill>
                <a:latin typeface="Bangle"/>
              </a:rPr>
              <a:t>Confirman.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24000" y="549360"/>
            <a:ext cx="8424720" cy="557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4000" spc="-1" strike="noStrike">
                <a:solidFill>
                  <a:srgbClr val="ff0066"/>
                </a:solidFill>
                <a:latin typeface="Bangle"/>
              </a:rPr>
              <a:t>“</a:t>
            </a:r>
            <a:r>
              <a:rPr b="1" i="1" lang="es-VE" sz="4000" spc="-1" strike="noStrike">
                <a:solidFill>
                  <a:srgbClr val="ff0066"/>
                </a:solidFill>
                <a:latin typeface="Bangle"/>
              </a:rPr>
              <a:t>Y Judas y Silas, como ellos también eran profetas, </a:t>
            </a:r>
            <a:r>
              <a:rPr b="1" i="1" lang="es-VE" sz="4000" spc="-1" strike="noStrike">
                <a:solidFill>
                  <a:srgbClr val="00ff00"/>
                </a:solidFill>
                <a:latin typeface="Bangle"/>
              </a:rPr>
              <a:t>consolaron y confirmaron</a:t>
            </a:r>
            <a:r>
              <a:rPr b="1" i="1" lang="es-VE" sz="4000" spc="-1" strike="noStrike">
                <a:solidFill>
                  <a:srgbClr val="ff0066"/>
                </a:solidFill>
                <a:latin typeface="Bangle"/>
              </a:rPr>
              <a:t> a los hermanos con abundancia de palabras… Y Pablo y Bernabé continuaron en Antioquía, </a:t>
            </a:r>
            <a:r>
              <a:rPr b="1" i="1" lang="es-VE" sz="4000" spc="-1" strike="noStrike">
                <a:solidFill>
                  <a:srgbClr val="00ff00"/>
                </a:solidFill>
                <a:latin typeface="Bangle"/>
              </a:rPr>
              <a:t>enseñando la palabra de Señor y anunciando el evangelio</a:t>
            </a:r>
            <a:r>
              <a:rPr b="1" i="1" lang="es-VE" sz="4000" spc="-1" strike="noStrike">
                <a:solidFill>
                  <a:srgbClr val="ff0066"/>
                </a:solidFill>
                <a:latin typeface="Bangle"/>
              </a:rPr>
              <a:t> con otros muchos”. Hechos 15.32,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b2b2b2"/>
                </a:solidFill>
                <a:latin typeface="Boulder"/>
              </a:rPr>
              <a:t> </a:t>
            </a:r>
            <a:r>
              <a:rPr b="1" lang="es-VE" sz="3600" spc="-1" strike="noStrike">
                <a:solidFill>
                  <a:srgbClr val="b2b2b2"/>
                </a:solidFill>
                <a:latin typeface="Boulder"/>
              </a:rPr>
              <a:t>INSTRUCTORES LA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3600" y="1771200"/>
            <a:ext cx="4495680" cy="4537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angle"/>
              </a:rPr>
              <a:t> </a:t>
            </a:r>
            <a:r>
              <a:rPr b="1" lang="es-VE" sz="2800" spc="-1" strike="noStrike">
                <a:solidFill>
                  <a:srgbClr val="ffff00"/>
                </a:solidFill>
                <a:latin typeface="Bangle"/>
              </a:rPr>
              <a:t>E</a:t>
            </a:r>
            <a:r>
              <a:rPr b="1" lang="es-ES" sz="2800" spc="-1" strike="noStrike">
                <a:solidFill>
                  <a:srgbClr val="ffff00"/>
                </a:solidFill>
                <a:latin typeface="Bangle"/>
              </a:rPr>
              <a:t>nseñan a la multit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00"/>
                </a:solidFill>
                <a:latin typeface="Bangle"/>
              </a:rPr>
              <a:t>Ayudan a los demás ministerios a comprender su ministerio y a perfeccionar sus dones y tal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00"/>
                </a:solidFill>
                <a:latin typeface="Bangle"/>
              </a:rPr>
              <a:t>Especialistas en educar a la feligres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1" descr="DSCN9483"/>
          <p:cNvPicPr/>
          <p:nvPr/>
        </p:nvPicPr>
        <p:blipFill>
          <a:blip r:embed="rId1"/>
          <a:stretch/>
        </p:blipFill>
        <p:spPr>
          <a:xfrm>
            <a:off x="5241960" y="3932280"/>
            <a:ext cx="3902040" cy="2925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6680" y="115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ffff00"/>
                </a:solidFill>
                <a:latin typeface="Boulder"/>
              </a:rPr>
              <a:t>EVANGELIS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9109080" cy="468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ffff"/>
                </a:solidFill>
                <a:latin typeface="Bangle"/>
              </a:rPr>
              <a:t>Usados por el Espíritu para presentar la verdad a públicos y obtener grandes cosech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Bangle"/>
              </a:rPr>
              <a:t>Predicadores La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Bangle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ang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Bangle"/>
              </a:rPr>
              <a:t>Feli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ang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Bangle"/>
              </a:rPr>
              <a:t>Juan el Teólo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ang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Bangle"/>
              </a:rPr>
              <a:t>Timote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Boulder"/>
              </a:rPr>
              <a:t>ORGANIZAC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920" y="234936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ff00"/>
                </a:solidFill>
                <a:latin typeface="Bangle"/>
              </a:rPr>
              <a:t>DIVISIÓN EN GRUPOS PEQUEÑ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ff00"/>
                </a:solidFill>
                <a:latin typeface="Bangle"/>
              </a:rPr>
              <a:t>SUBDIVISIÓN EN MINISTERIOS ESPIRITUA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ff00"/>
                </a:solidFill>
                <a:latin typeface="Bangle"/>
              </a:rPr>
              <a:t>PLANIFICACIÓN ESTRATÉGIC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ff00"/>
                </a:solidFill>
                <a:latin typeface="Bangle"/>
              </a:rPr>
              <a:t>CAPACITACIÓN EFICA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ff00"/>
                </a:solidFill>
                <a:latin typeface="Bangle"/>
              </a:rPr>
              <a:t>EJECUCIÓN Y EVALU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old_church_trees_wind_blowing_lg_clr"/>
          <p:cNvPicPr/>
          <p:nvPr/>
        </p:nvPicPr>
        <p:blipFill>
          <a:blip r:embed="rId2"/>
          <a:stretch/>
        </p:blipFill>
        <p:spPr>
          <a:xfrm>
            <a:off x="7410600" y="5248440"/>
            <a:ext cx="1733400" cy="1609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3994200"/>
            <a:ext cx="9144000" cy="2819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99ff"/>
                </a:solidFill>
                <a:latin typeface="Bangle"/>
              </a:rPr>
              <a:t>“</a:t>
            </a:r>
            <a:r>
              <a:rPr b="1" lang="es-MX" sz="4400" spc="-1" strike="noStrike">
                <a:solidFill>
                  <a:srgbClr val="6699ff"/>
                </a:solidFill>
                <a:latin typeface="Bangle"/>
              </a:rPr>
              <a:t>Después de esto vi a otro ángel descender del cielo con gran poder; y la tierra fue alumbrada con su gloria.” Apoc. 18.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66ff33"/>
                </a:solidFill>
                <a:latin typeface="Boulder"/>
              </a:rPr>
              <a:t>MISIÓN CLAR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1"/>
          <p:cNvPicPr/>
          <p:nvPr/>
        </p:nvPicPr>
        <p:blipFill>
          <a:blip r:embed="rId2"/>
          <a:stretch/>
        </p:blipFill>
        <p:spPr>
          <a:xfrm>
            <a:off x="8229600" y="228600"/>
            <a:ext cx="600120" cy="447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ENDEMONIADOS"/>
          <p:cNvPicPr/>
          <p:nvPr/>
        </p:nvPicPr>
        <p:blipFill>
          <a:blip r:embed="rId1"/>
          <a:stretch/>
        </p:blipFill>
        <p:spPr>
          <a:xfrm>
            <a:off x="2187720" y="-11160"/>
            <a:ext cx="4767120" cy="68817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457200" y="5181480"/>
            <a:ext cx="8229600" cy="152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9966"/>
                </a:solidFill>
                <a:latin typeface="Boulder"/>
              </a:rPr>
              <a:t>HACER DISCÍPUL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1"/>
          <p:cNvPicPr/>
          <p:nvPr/>
        </p:nvPicPr>
        <p:blipFill>
          <a:blip r:embed="rId2"/>
          <a:stretch/>
        </p:blipFill>
        <p:spPr>
          <a:xfrm>
            <a:off x="8229600" y="228600"/>
            <a:ext cx="600120" cy="447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95280" y="3933720"/>
            <a:ext cx="842472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ff00"/>
                </a:solidFill>
                <a:latin typeface="Bangle"/>
              </a:rPr>
              <a:t>“</a:t>
            </a:r>
            <a:r>
              <a:rPr b="1" lang="es-VE" sz="3600" spc="-1" strike="noStrike">
                <a:solidFill>
                  <a:srgbClr val="00ff00"/>
                </a:solidFill>
                <a:latin typeface="Bangle"/>
              </a:rPr>
              <a:t>¿Quién es esta que se muestra como el alba, hermosa como la luna, esclarecida como el sol, imponente como ejército en orden?” Cant. 6.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FRETNE IGLESIA"/>
          <p:cNvPicPr/>
          <p:nvPr/>
        </p:nvPicPr>
        <p:blipFill>
          <a:blip r:embed="rId1"/>
          <a:stretch/>
        </p:blipFill>
        <p:spPr>
          <a:xfrm>
            <a:off x="3419640" y="189000"/>
            <a:ext cx="2339640" cy="3297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logoadvwithglobe"/>
          <p:cNvPicPr/>
          <p:nvPr/>
        </p:nvPicPr>
        <p:blipFill>
          <a:blip r:embed="rId1"/>
          <a:stretch/>
        </p:blipFill>
        <p:spPr>
          <a:xfrm>
            <a:off x="971640" y="34920"/>
            <a:ext cx="7272360" cy="68547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Boulder"/>
              </a:rPr>
              <a:t>PREGUNTAS FUNDAMENT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92000"/>
          </a:bodyPr>
          <a:p>
            <a:pPr marL="315360" indent="-315360" algn="ctr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ff00"/>
                </a:solidFill>
                <a:latin typeface="Bangle"/>
              </a:rPr>
              <a:t>¿Quién puede capacitar a la feligresía para el cumplimiento de la mis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ff00"/>
                </a:solidFill>
                <a:latin typeface="Bangle"/>
              </a:rPr>
              <a:t>¿Quién son capaces de hacer avanzar las líneas del evangeli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ff00"/>
                </a:solidFill>
                <a:latin typeface="Bangle"/>
              </a:rPr>
              <a:t>¿Quién puede presentar un mensaje poderoso que conmueva multitud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ff00"/>
                </a:solidFill>
                <a:latin typeface="Bangle"/>
              </a:rPr>
              <a:t>¿Quién cuidará a los que se conviert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Boulder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Bangle"/>
              </a:rPr>
              <a:t>EL PAST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Bangle"/>
              </a:rPr>
              <a:t>EL PASTOR CON ALGUNOS POC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Bangle"/>
              </a:rPr>
              <a:t>LA MAYORÍA DE LOS DISCÍPUL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priest_preaching_behind_podium_lg_clr"/>
          <p:cNvPicPr/>
          <p:nvPr/>
        </p:nvPicPr>
        <p:blipFill>
          <a:blip r:embed="rId1"/>
          <a:stretch/>
        </p:blipFill>
        <p:spPr>
          <a:xfrm>
            <a:off x="7093080" y="404640"/>
            <a:ext cx="1609560" cy="1609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little_girl_praying_lg_clr"/>
          <p:cNvPicPr/>
          <p:nvPr/>
        </p:nvPicPr>
        <p:blipFill>
          <a:blip r:embed="rId2"/>
          <a:stretch/>
        </p:blipFill>
        <p:spPr>
          <a:xfrm>
            <a:off x="7308720" y="4653000"/>
            <a:ext cx="1181160" cy="1485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MAYO 064"/>
          <p:cNvPicPr/>
          <p:nvPr/>
        </p:nvPicPr>
        <p:blipFill>
          <a:blip r:embed="rId3"/>
          <a:stretch/>
        </p:blipFill>
        <p:spPr>
          <a:xfrm>
            <a:off x="0" y="4618080"/>
            <a:ext cx="2987640" cy="2239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ADOLESCENTES"/>
          <p:cNvPicPr/>
          <p:nvPr/>
        </p:nvPicPr>
        <p:blipFill>
          <a:blip r:embed="rId1"/>
          <a:srcRect l="0" t="0" r="0" b="29008"/>
          <a:stretch/>
        </p:blipFill>
        <p:spPr>
          <a:xfrm>
            <a:off x="0" y="2016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Boulder"/>
              </a:rPr>
              <a:t>¿LA IGLESIA UN EJÉRCI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920" y="5013000"/>
            <a:ext cx="3743280" cy="2592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3300"/>
                </a:solidFill>
                <a:latin typeface="Bangle"/>
              </a:rPr>
              <a:t>CÉL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3300"/>
                </a:solidFill>
                <a:latin typeface="Bangle"/>
              </a:rPr>
              <a:t>MINISTERIOS ESPIRITUA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533520" y="762120"/>
            <a:ext cx="7772400" cy="619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3200" spc="-1" strike="noStrike">
                <a:solidFill>
                  <a:srgbClr val="ffffff"/>
                </a:solidFill>
                <a:latin typeface="Microsoft Sans Serif"/>
              </a:rPr>
              <a:t>“</a:t>
            </a:r>
            <a:r>
              <a:rPr b="1" i="1" lang="es-VE" sz="3200" spc="-1" strike="noStrike">
                <a:solidFill>
                  <a:srgbClr val="ffffff"/>
                </a:solidFill>
                <a:latin typeface="Microsoft Sans Serif"/>
              </a:rPr>
              <a:t>No quiero hermanos, </a:t>
            </a:r>
            <a:r>
              <a:rPr b="1" i="1" lang="es-VE" sz="3200" spc="-1" strike="noStrike">
                <a:solidFill>
                  <a:srgbClr val="ffff00"/>
                </a:solidFill>
                <a:latin typeface="Microsoft Sans Serif"/>
              </a:rPr>
              <a:t>que ignoréis acerca de los dones espirituales...</a:t>
            </a:r>
            <a:r>
              <a:rPr b="1" i="1" lang="es-VE" sz="3200" spc="-1" strike="noStrike">
                <a:solidFill>
                  <a:srgbClr val="ffffff"/>
                </a:solidFill>
                <a:latin typeface="Microsoft Sans Serif"/>
              </a:rPr>
              <a:t>Ahora bien, hay </a:t>
            </a:r>
            <a:r>
              <a:rPr b="1" i="1" lang="es-VE" sz="3200" spc="-1" strike="noStrike">
                <a:solidFill>
                  <a:srgbClr val="ffff00"/>
                </a:solidFill>
                <a:latin typeface="Microsoft Sans Serif"/>
              </a:rPr>
              <a:t>diversidad de dones</a:t>
            </a:r>
            <a:r>
              <a:rPr b="1" i="1" lang="es-VE" sz="3200" spc="-1" strike="noStrike">
                <a:solidFill>
                  <a:srgbClr val="ffffff"/>
                </a:solidFill>
                <a:latin typeface="Microsoft Sans Serif"/>
              </a:rPr>
              <a:t>, pero el Espíritu es el mismo. Y hay </a:t>
            </a:r>
            <a:r>
              <a:rPr b="1" i="1" lang="es-VE" sz="3200" spc="-1" strike="noStrike">
                <a:solidFill>
                  <a:srgbClr val="ffff00"/>
                </a:solidFill>
                <a:latin typeface="Microsoft Sans Serif"/>
              </a:rPr>
              <a:t>diversidad de ministerios</a:t>
            </a:r>
            <a:r>
              <a:rPr b="1" i="1" lang="es-VE" sz="3200" spc="-1" strike="noStrike">
                <a:solidFill>
                  <a:srgbClr val="ffffff"/>
                </a:solidFill>
                <a:latin typeface="Microsoft Sans Serif"/>
              </a:rPr>
              <a:t>, pero el Señor es el mismo. Y hay </a:t>
            </a:r>
            <a:r>
              <a:rPr b="1" i="1" lang="es-VE" sz="3200" spc="-1" strike="noStrike">
                <a:solidFill>
                  <a:srgbClr val="ffff00"/>
                </a:solidFill>
                <a:latin typeface="Microsoft Sans Serif"/>
              </a:rPr>
              <a:t>diversidad de operaciones</a:t>
            </a:r>
            <a:r>
              <a:rPr b="1" i="1" lang="es-VE" sz="3200" spc="-1" strike="noStrike">
                <a:solidFill>
                  <a:srgbClr val="ffffff"/>
                </a:solidFill>
                <a:latin typeface="Microsoft Sans Serif"/>
              </a:rPr>
              <a:t>, pero Dios, que hace todas las cosas en todos, es el mismo... </a:t>
            </a:r>
            <a:r>
              <a:rPr b="1" i="1" lang="es-VE" sz="3200" spc="-1" strike="noStrike">
                <a:solidFill>
                  <a:srgbClr val="ffff00"/>
                </a:solidFill>
                <a:latin typeface="Microsoft Sans Serif"/>
              </a:rPr>
              <a:t>Pero a cada uno le es dada la manifestación del Espíritu para provecho.”</a:t>
            </a:r>
            <a:r>
              <a:rPr b="1" i="1" lang="es-VE" sz="3200" spc="-1" strike="noStrike">
                <a:solidFill>
                  <a:srgbClr val="ffffff"/>
                </a:solidFill>
                <a:latin typeface="Microsoft Sans Serif"/>
              </a:rPr>
              <a:t> 1 Cor. 12.1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3200" spc="-1" strike="noStrike">
                <a:solidFill>
                  <a:srgbClr val="ffffff"/>
                </a:solidFill>
                <a:latin typeface="Microsoft Sans Serif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PES COMUNI UVO</cp:lastModifiedBy>
  <dcterms:modified xsi:type="dcterms:W3CDTF">2011-11-06T15:48:30Z</dcterms:modified>
  <cp:revision>45</cp:revision>
  <dc:subject/>
  <dc:title>PowerPoint Presentation</dc:title>
</cp:coreProperties>
</file>